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FDF-28A2-4958-BC5F-2B197838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19C-6664-4A65-8FF4-F05B4EB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80486-D8E8-40BD-85C3-36489544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B7A9F-0B90-4161-B8D5-9FDAEA06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E2A3E-8C5E-4809-80C5-2FD9A3F1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E2DC7-38E2-4067-85ED-AE586EA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319ED-DE8B-4C7A-9C9C-95FB26B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AF514-4C55-4A81-81C3-B2ED43E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F6DD-BD36-4EAD-85FD-E5C92ED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B3EA9-52F7-4BAC-AD87-3303C4D5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AA590-E40E-431B-B0B2-A4BF5C62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291-4954-40E3-A235-C6715EB3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F3A-70D4-4470-B71C-E30D913E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DF198-49D3-4BDC-98EC-DE2C5EE3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FFEB2-8A40-40D3-8C48-D0BEAD77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15E67-1D37-4E18-A4B9-C71E489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B6D1-5F47-4156-BCFA-9F3DB7E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90A3A-F1B1-4256-AB7A-B4DF327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C113-F404-41E4-AB03-5980CB3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B58CC-82A0-45D6-8ED6-BFEEF75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F65-2EC7-444D-AF20-FE5717EC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C9BD-0DD7-4518-ADE3-7EC512D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A454D-C87F-482D-AA98-6BA4D6D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F53E-6882-4448-A1A8-523A6BC6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34DA3-DA64-4720-8D4C-55C2FA97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312B-979A-422F-80A5-4686A7DC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A2B7-C7D4-4762-A29E-89B10A7D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F28C-5976-4396-A6A5-542C1C07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7F2C-B306-40D3-AF0E-7A32F9F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C5B0-73A3-4C72-8FDC-2AB0769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7650-B173-452B-9113-58513EA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92-7DEA-49BC-9A85-3B35C76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455D-13CF-4C6C-975B-35C0DF4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EBCB-5C9C-46A2-9E4B-C9C9C39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D518-B362-43C2-9EDC-D2ABF48F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6936-5A45-4976-AB57-CBC8DAE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55A7-536B-40EF-BBC6-58F9780E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DD84-D019-4CF9-8A58-DC1196FF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CEAF-21FA-4199-9BF5-956EFD2D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F823-EE65-44E7-AC71-B7F5C32D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49354-5FCA-47D7-BF6E-E8BB68D0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37D1E-B3FF-449B-ACB4-938A42E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AEE-3008-4A12-BD67-AE2FD0C7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00093-7823-4E13-BB73-8DBA967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421A7-F442-4328-9A06-A7E3A7F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07275-7C4D-4DBE-91DE-B06E898F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65442-F0B9-441A-974A-790E56B4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87D82-9C40-4B5A-8798-A47D6B2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DFF06-1EB8-4D4A-AC08-477A91D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5E528-7A2A-4754-B5D9-72A559D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02C52-2CAD-4C62-9D8C-42E490CB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16FDB-AE85-46BF-AEAB-28D51EB6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916E-D2A7-40AB-A831-43DCE7AD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C34-68A0-48EE-8197-8D89E388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7EA8-A1F3-461A-A56E-B83D3606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46CA-4F10-44C1-B60E-5D969F9F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3123-D5D8-41F9-883A-9941A1E2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E8A7-E6EF-4673-A457-9AD6D7F8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E8FF4-357D-425A-9DC2-8C05325E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023C-9F0A-4462-9506-65C12AF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E3B2-447D-4AAA-A950-9933971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E6E10-C3AF-4187-88AF-CDDB16C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BF369-C79F-44E0-B379-2196280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E004-7D9C-403A-94BB-2C0552F6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E24-BEA0-4B8B-BF5E-769120E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6AD1-2FDB-4475-ABC3-86F5E150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45682-E5E7-4920-93BA-C2939322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A4073-948B-4F91-BDCD-DA89FE2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E42BA-816F-471E-B914-35EC031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46D39-AAA0-4F76-8CE0-27E59F3E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0F3D4-48D2-4236-B7CB-A4646091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1618C-FF2B-4D73-B119-F80EC66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C528E-F079-4114-8275-96DE350E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83CFD-56F6-434B-9FD8-EEE3A50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BB1CD-4A64-420E-80F6-9B7BC3E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AC8-8346-472F-9E78-4A6C6E54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8A352-AE54-48B7-8F87-731379B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D39B9-7949-44B6-AC3C-0BBB34BA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B2F09-BD25-43B7-8C7C-59C4968A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20017-0582-42FC-9ED9-CF448BC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3378-24DA-4871-B481-37D20B39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2CE6-35A2-4B75-8C14-67490D62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D1368-6863-4CD4-B3AD-EA5889D5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9855A-4551-4AFA-A99B-427831B9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299F-C93F-4644-8E69-D47165E3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6D3C-AD48-4246-8F94-652CFB63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427-EA30-4359-9C8B-D29E41E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C2C51-88D0-4CEB-8B6A-C0A8A2F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4143-8EDB-4BBA-94A4-82C42C8B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7CA6-79E3-4B2E-86A1-442A1D23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284E-D6E6-49F5-9B4D-363166EE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CF132-D2BA-4ADE-B302-9FDD8C8C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52FD1-C9CD-4EB8-AB4A-8F747120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3D9BA-2DFB-4699-8C8B-AF4EF3C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061F4-436B-4648-8A66-58E061C4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4C5C-4CC4-4ABB-8C20-0F95992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C9506-F468-47A9-89AF-AAB3ECE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AAD-F041-4998-A177-5915F7D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7AFBF-BB41-4B3D-862D-5BBA60E5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2FB91-FE10-4744-81EA-208C074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82C0C-2465-414E-A4CD-EB07F10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D0A4-9CA2-459F-AE4E-759241D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221C-0947-4E26-AA81-6D7951CA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8806-29E4-465F-8F1B-CF5861F0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9A440-5002-48B7-ABC2-2DBFD41F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BD60-025D-4A95-800C-F8DE97AD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16102-449A-4533-95C9-9C2A877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25983-89F7-4B53-8C18-DFED610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B97-F5C8-4A38-94EF-0BDD389699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3705-035F-4AEA-B3F6-549DDFE5247F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75EF-4DD9-4D06-8F48-11CACAAE1501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278-F457-4377-9AEC-D032C7EBD84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6546-F8CF-4450-8186-B6240470F4B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C75F-AD52-4303-A9C7-FDB1DE548C2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112-26C0-4671-B091-B576A1330C0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EDB7-2B4D-4CFC-A47B-DC4EEEFC5B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23ED-2B38-48A7-8735-228445834D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838-C5B0-4A1F-B8FD-E17455BC11E0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9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5098-EBF1-4A76-8B3D-224C3E353818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dc3"/>
                </a:solidFill>
                <a:latin typeface="Tw Cen MT"/>
                <a:ea typeface="微軟正黑體"/>
              </a:rPr>
              <a:t>Learner and Teacher Autonomy in language education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KWOK Chee Ying Henry 10401474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M Yan Yin Felix 1040121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U Tik Sang Dickson 09401482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EE Chi Leung Edmund 10401237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TAM Ming Sum Sammy 0940149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微軟正黑體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33440" y="17442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512720" y="2421000"/>
            <a:ext cx="179892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457440" y="2421000"/>
            <a:ext cx="187164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ree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hei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3457440" y="3933720"/>
            <a:ext cx="187164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pacity to gr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earn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51272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ble 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72000" y="2421000"/>
            <a:ext cx="180036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er-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547200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b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no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1511280" y="1773360"/>
            <a:ext cx="5761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romote learner autonom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s may need to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 flipH="1">
            <a:off x="1727280" y="5373720"/>
            <a:ext cx="4897440" cy="936720"/>
          </a:xfrm>
          <a:custGeom>
            <a:avLst/>
            <a:gdLst>
              <a:gd name="textAreaLeft" fmla="*/ 1007280 w 4897440"/>
              <a:gd name="textAreaRight" fmla="*/ 3387600 w 489744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-2959596"/>
                <a:lnTo>
                  <a:pt x="21092" y="7199"/>
                </a:lnTo>
                <a:lnTo>
                  <a:pt x="18578" y="0"/>
                </a:lnTo>
                <a:lnTo>
                  <a:pt x="15047" y="7199"/>
                </a:lnTo>
                <a:lnTo>
                  <a:pt x="17263" y="7199"/>
                </a:lnTo>
                <a:arcTo wR="8886" hR="21600" stAng="2440404" swAng="2830766"/>
                <a:lnTo>
                  <a:pt x="9692" y="21511"/>
                </a:lnTo>
                <a:arcTo wR="8886" hR="21600" stAng="5528830" swAng="5271170"/>
                <a:close/>
              </a:path>
              <a:path fill="darkenLess"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128830"/>
                <a:lnTo>
                  <a:pt x="9692" y="21511"/>
                </a:lnTo>
                <a:arcTo wR="8886" hR="21600" stAng="5528830" swAng="527117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8"/>
          <p:cNvSpPr/>
          <p:nvPr/>
        </p:nvSpPr>
        <p:spPr>
          <a:xfrm>
            <a:off x="71280" y="2060640"/>
            <a:ext cx="1368720" cy="31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edag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for 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7345440" y="2133720"/>
            <a:ext cx="1439640" cy="31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with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2"/>
          <p:cNvSpPr/>
          <p:nvPr/>
        </p:nvSpPr>
        <p:spPr>
          <a:xfrm rot="17909400">
            <a:off x="3399120" y="4798440"/>
            <a:ext cx="317160" cy="1270080"/>
          </a:xfrm>
          <a:prstGeom prst="upArrow">
            <a:avLst>
              <a:gd name="adj1" fmla="val 50000"/>
              <a:gd name="adj2" fmla="val 1001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3"/>
          <p:cNvSpPr/>
          <p:nvPr/>
        </p:nvSpPr>
        <p:spPr>
          <a:xfrm>
            <a:off x="4176720" y="5157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4"/>
          <p:cNvSpPr/>
          <p:nvPr/>
        </p:nvSpPr>
        <p:spPr>
          <a:xfrm rot="5400000">
            <a:off x="1316520" y="2545560"/>
            <a:ext cx="392040" cy="431640"/>
          </a:xfrm>
          <a:prstGeom prst="upArrow">
            <a:avLst>
              <a:gd name="adj1" fmla="val 50000"/>
              <a:gd name="adj2" fmla="val 275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 rot="16200000">
            <a:off x="7149240" y="2511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604960" y="633420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 Education (e.g. PG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7"/>
          <p:cNvSpPr/>
          <p:nvPr/>
        </p:nvSpPr>
        <p:spPr>
          <a:xfrm>
            <a:off x="6121440" y="5373720"/>
            <a:ext cx="2593800" cy="1295280"/>
          </a:xfrm>
          <a:custGeom>
            <a:avLst/>
            <a:gdLst>
              <a:gd name="textAreaLeft" fmla="*/ 0 w 2593800"/>
              <a:gd name="textAreaRight" fmla="*/ 2109600 w 259380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 flipH="1">
            <a:off x="71280" y="5373720"/>
            <a:ext cx="2592720" cy="1295280"/>
          </a:xfrm>
          <a:custGeom>
            <a:avLst/>
            <a:gdLst>
              <a:gd name="textAreaLeft" fmla="*/ 0 w 2592720"/>
              <a:gd name="textAreaRight" fmla="*/ 2108880 w 259272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9"/>
          <p:cNvSpPr/>
          <p:nvPr/>
        </p:nvSpPr>
        <p:spPr>
          <a:xfrm>
            <a:off x="3946680" y="5386320"/>
            <a:ext cx="86508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x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7145280" y="148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2160" y="1484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4"/>
          <p:cNvSpPr/>
          <p:nvPr/>
        </p:nvSpPr>
        <p:spPr>
          <a:xfrm>
            <a:off x="4731480" y="5373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7"/>
          <p:cNvGrpSpPr/>
          <p:nvPr/>
        </p:nvGrpSpPr>
        <p:grpSpPr>
          <a:xfrm>
            <a:off x="252360" y="4148280"/>
            <a:ext cx="5040000" cy="2592000"/>
            <a:chOff x="252360" y="4148280"/>
            <a:chExt cx="5040000" cy="2592000"/>
          </a:xfrm>
        </p:grpSpPr>
        <p:sp>
          <p:nvSpPr>
            <p:cNvPr id="488" name="Rectangle 4"/>
            <p:cNvSpPr/>
            <p:nvPr/>
          </p:nvSpPr>
          <p:spPr>
            <a:xfrm>
              <a:off x="408600" y="4148280"/>
              <a:ext cx="46270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5f55"/>
                  </a:solidFill>
                  <a:latin typeface="Calibri"/>
                </a:rPr>
                <a:t>Constrai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>
              <a:off x="779040" y="439920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>
              <a:off x="4098600" y="50562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diver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252360" y="57128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Lack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373680" y="49705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am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3045960" y="457092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Discip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1062000" y="54270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rk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>
              <a:off x="3167280" y="59983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>
              <a:off x="1507320" y="482796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>
              <a:off x="1832400" y="602676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ool Poli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>
              <a:off x="2316960" y="5198760"/>
              <a:ext cx="1620000" cy="114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rie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>
              <a:off x="3875040" y="5569920"/>
              <a:ext cx="1417320" cy="95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eme of 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>
              <a:off x="3976920" y="44564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ass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Oval 18"/>
          <p:cNvSpPr/>
          <p:nvPr/>
        </p:nvSpPr>
        <p:spPr>
          <a:xfrm>
            <a:off x="179280" y="1628640"/>
            <a:ext cx="6120000" cy="21592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acher Aut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2556000" y="3427560"/>
            <a:ext cx="215640" cy="792000"/>
          </a:xfrm>
          <a:prstGeom prst="downArrow">
            <a:avLst>
              <a:gd name="adj1" fmla="val 50000"/>
              <a:gd name="adj2" fmla="val 918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3"/>
          <p:cNvSpPr/>
          <p:nvPr/>
        </p:nvSpPr>
        <p:spPr>
          <a:xfrm>
            <a:off x="4284720" y="3427560"/>
            <a:ext cx="4753080" cy="12236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arner 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/>
          <p:cNvSpPr/>
          <p:nvPr/>
        </p:nvSpPr>
        <p:spPr>
          <a:xfrm rot="3006600">
            <a:off x="4680360" y="3175920"/>
            <a:ext cx="936720" cy="576000"/>
          </a:xfrm>
          <a:prstGeom prst="leftRightArrow">
            <a:avLst>
              <a:gd name="adj1" fmla="val 50000"/>
              <a:gd name="adj2" fmla="val 32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5724360" y="5011560"/>
            <a:ext cx="30974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ett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8"/>
          <p:cNvSpPr/>
          <p:nvPr/>
        </p:nvSpPr>
        <p:spPr>
          <a:xfrm>
            <a:off x="6156360" y="457992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951240" y="4579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i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6014160" y="29955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fe-long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919120" y="1819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eating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4"/>
          <p:cNvSpPr/>
          <p:nvPr/>
        </p:nvSpPr>
        <p:spPr>
          <a:xfrm>
            <a:off x="1045800" y="291780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ttitudes, Skills, and Knowledge (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5"/>
          <p:cNvSpPr/>
          <p:nvPr/>
        </p:nvSpPr>
        <p:spPr>
          <a:xfrm>
            <a:off x="3502440" y="19875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6"/>
          <p:cNvSpPr/>
          <p:nvPr/>
        </p:nvSpPr>
        <p:spPr>
          <a:xfrm>
            <a:off x="1188720" y="1981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1023120" y="3787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8"/>
          <p:cNvSpPr/>
          <p:nvPr/>
        </p:nvSpPr>
        <p:spPr>
          <a:xfrm flipV="1">
            <a:off x="2771640" y="3425760"/>
            <a:ext cx="2016360" cy="938160"/>
          </a:xfrm>
          <a:custGeom>
            <a:avLst/>
            <a:gdLst>
              <a:gd name="textAreaLeft" fmla="*/ 1159920 w 2016360"/>
              <a:gd name="textAreaRight" fmla="*/ 1724400 w 2016360"/>
              <a:gd name="textAreaTop" fmla="*/ 153720 h 938160"/>
              <a:gd name="textAreaBottom" fmla="*/ 37404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095" y="0"/>
                </a:lnTo>
                <a:lnTo>
                  <a:pt x="14095" y="3545"/>
                </a:lnTo>
                <a:lnTo>
                  <a:pt x="12427" y="3545"/>
                </a:lnTo>
                <a:cubicBezTo>
                  <a:pt x="5564" y="3545"/>
                  <a:pt x="0" y="7401"/>
                  <a:pt x="0" y="12158"/>
                </a:cubicBezTo>
                <a:lnTo>
                  <a:pt x="0" y="21600"/>
                </a:lnTo>
                <a:lnTo>
                  <a:pt x="5180" y="21600"/>
                </a:lnTo>
                <a:lnTo>
                  <a:pt x="5180" y="12158"/>
                </a:lnTo>
                <a:cubicBezTo>
                  <a:pt x="5180" y="10200"/>
                  <a:pt x="8425" y="8613"/>
                  <a:pt x="12427" y="8613"/>
                </a:cubicBezTo>
                <a:lnTo>
                  <a:pt x="14095" y="8613"/>
                </a:lnTo>
                <a:lnTo>
                  <a:pt x="1409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微軟正黑體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Language Teach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utonomy in ELT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vs. 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95280" y="170028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0" name="Picture 90" descr="MC900326908[1]"/>
          <p:cNvPicPr/>
          <p:nvPr/>
        </p:nvPicPr>
        <p:blipFill>
          <a:blip r:embed="rId1"/>
          <a:stretch/>
        </p:blipFill>
        <p:spPr>
          <a:xfrm>
            <a:off x="1692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1" descr="MC900326908[1]"/>
          <p:cNvPicPr/>
          <p:nvPr/>
        </p:nvPicPr>
        <p:blipFill>
          <a:blip r:embed="rId2"/>
          <a:stretch/>
        </p:blipFill>
        <p:spPr>
          <a:xfrm>
            <a:off x="759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2" descr="MC900326908[1]"/>
          <p:cNvPicPr/>
          <p:nvPr/>
        </p:nvPicPr>
        <p:blipFill>
          <a:blip r:embed="rId3"/>
          <a:stretch/>
        </p:blipFill>
        <p:spPr>
          <a:xfrm>
            <a:off x="615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3" descr="MC900326908[1]"/>
          <p:cNvPicPr/>
          <p:nvPr/>
        </p:nvPicPr>
        <p:blipFill>
          <a:blip r:embed="rId4"/>
          <a:stretch/>
        </p:blipFill>
        <p:spPr>
          <a:xfrm>
            <a:off x="4716360" y="34290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4" descr="MC900326908[1]"/>
          <p:cNvPicPr/>
          <p:nvPr/>
        </p:nvPicPr>
        <p:blipFill>
          <a:blip r:embed="rId5"/>
          <a:stretch/>
        </p:blipFill>
        <p:spPr>
          <a:xfrm>
            <a:off x="327672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5" descr="MM900336396[1]"/>
          <p:cNvPicPr/>
          <p:nvPr/>
        </p:nvPicPr>
        <p:blipFill>
          <a:blip r:embed="rId6"/>
          <a:stretch/>
        </p:blipFill>
        <p:spPr>
          <a:xfrm>
            <a:off x="183528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6" descr="MM900336396[1]"/>
          <p:cNvPicPr/>
          <p:nvPr/>
        </p:nvPicPr>
        <p:blipFill>
          <a:blip r:embed="rId7"/>
          <a:stretch/>
        </p:blipFill>
        <p:spPr>
          <a:xfrm>
            <a:off x="7740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7" descr="MM900336396[1]"/>
          <p:cNvPicPr/>
          <p:nvPr/>
        </p:nvPicPr>
        <p:blipFill>
          <a:blip r:embed="rId8"/>
          <a:stretch/>
        </p:blipFill>
        <p:spPr>
          <a:xfrm>
            <a:off x="630072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8" descr="MM900336396[1]"/>
          <p:cNvPicPr/>
          <p:nvPr/>
        </p:nvPicPr>
        <p:blipFill>
          <a:blip r:embed="rId9"/>
          <a:stretch/>
        </p:blipFill>
        <p:spPr>
          <a:xfrm>
            <a:off x="493236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9" descr="MM900336396[1]"/>
          <p:cNvPicPr/>
          <p:nvPr/>
        </p:nvPicPr>
        <p:blipFill>
          <a:blip r:embed="rId10"/>
          <a:stretch/>
        </p:blipFill>
        <p:spPr>
          <a:xfrm>
            <a:off x="349236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Grammar translation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ed teaching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Direct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ind examples from every day vocabulary and sent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dio-lingual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llow model dialogue and teach through repetition &amp; drill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ve Language Teach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It is unified but broadly based, theoretically well informed set of tenets about the nature of language learning and teaching.” (Brown H.D.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learning activities and tasks involving real-life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based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’s (1998) concept of TB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 is prim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on problem to sol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lationship to comparable real-world activ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com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Assessment of the task in terms of outco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elect authentic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ummary (Autonomy vs. Method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95280" y="162864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igned &amp; prepared in ad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xamples from every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petition &amp; dri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 learning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he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8" name="Picture 35" descr="MC900434713[1]"/>
          <p:cNvPicPr/>
          <p:nvPr/>
        </p:nvPicPr>
        <p:blipFill>
          <a:blip r:embed="rId1"/>
          <a:stretch/>
        </p:blipFill>
        <p:spPr>
          <a:xfrm>
            <a:off x="615636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6" descr="MC900434713[1]"/>
          <p:cNvPicPr/>
          <p:nvPr/>
        </p:nvPicPr>
        <p:blipFill>
          <a:blip r:embed="rId2"/>
          <a:stretch/>
        </p:blipFill>
        <p:spPr>
          <a:xfrm>
            <a:off x="752472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7" descr="MC900434713[1]"/>
          <p:cNvPicPr/>
          <p:nvPr/>
        </p:nvPicPr>
        <p:blipFill>
          <a:blip r:embed="rId3"/>
          <a:stretch/>
        </p:blipFill>
        <p:spPr>
          <a:xfrm>
            <a:off x="3132000" y="4724280"/>
            <a:ext cx="646200" cy="677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8" descr="MC900432537[1]"/>
          <p:cNvPicPr/>
          <p:nvPr/>
        </p:nvPicPr>
        <p:blipFill>
          <a:blip r:embed="rId4"/>
          <a:stretch/>
        </p:blipFill>
        <p:spPr>
          <a:xfrm>
            <a:off x="370836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9" descr="MC900432537[1]"/>
          <p:cNvPicPr/>
          <p:nvPr/>
        </p:nvPicPr>
        <p:blipFill>
          <a:blip r:embed="rId5"/>
          <a:stretch/>
        </p:blipFill>
        <p:spPr>
          <a:xfrm>
            <a:off x="1692360" y="486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0" descr="MC900432537[1]"/>
          <p:cNvPicPr/>
          <p:nvPr/>
        </p:nvPicPr>
        <p:blipFill>
          <a:blip r:embed="rId6"/>
          <a:stretch/>
        </p:blipFill>
        <p:spPr>
          <a:xfrm>
            <a:off x="4643280" y="48704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Shar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Hen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3 &amp; S6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rilling on TSA/ HKCEE / HKALE / HKDSE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No 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1, S2, S4, S5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ess Drilling on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lexible group activities &amp;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What is your goa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 an English Teacher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stralian Primary School 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 and teaching materials from EDB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 Program – PLP-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/Writing Program – PLP-R/W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 in group activities &amp; games with P1 &amp; P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ouch the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ailor-made chess bo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aseball score c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VC (Consonants Vowels Consonants ) word g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inging the “left &amp; right” songs, letter songs,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Feli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ime lim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, lesson time, assessment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f you believe, you wil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ncourage refl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hat” to express before “how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ultural: teacher’s responsibility (</a:t>
            </a: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Takagi and Chu 201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4839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cheme of work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rm coordinators deliver the scheme of work to form teachers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Have to finish teaching the units and specific items within the assigned period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worksheets, hangouts and any other teaching materials other than the textbooks in order to fit the needs of their own class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lways encourage and reinforce students that they are capable and smart enough to learn mo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 more challenging tasks and teach more advanced level i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ve they are capable so they are willing to accept extra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velop a habit that reading Young Post and write down new vocabulary items on their ‘Learning Log’ every da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ubmit news summary and reflections which are not assigned by the teacher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pply those new items in their writing and speaking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Edm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reating spaces out of constrai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 Junior High if possi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ry to pick the essentials to teach from the Scheme of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pare as much free time to discuss the weekly new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er autonomy – true believer of self-directed lear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Weekly reading and writing as a hab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ading (Authentic Materials – One news article weekl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riting (News report - encourage students’ reflectio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sist on marking with feedbacks on their weekly writing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am-oriented culture as the external dri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ckground of the scho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and 3 secondary scho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onnection between the local school and the American Lutheran Church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artment of International Interfa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erican volunteers visit the campus by promoting Christianity and English learning through playing games, singing songs, visiting local families, participating in the lessons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 promotes learner autonomy through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pport by the Princip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articipating several activities with the volunteers from the US (sightseeing, dining, worshipping, etc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unication &gt; learning English for ex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 (Senior secondary scho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ciety: Expect HKDSE takers have certain proficiency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arents: Expect the school has more drilling and practi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rriculum: Senior form ( preparing for the HKDS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me constraint : Remedial classes for different subjec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asibl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ior for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nguage a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eciation and enjoyment of the langu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studies lesson (culture, living style, activitie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cebook connection with the US volunte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 everyone in the school has the opportunity to participat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le to create the space to enhance both teacher and student autonomy in junior leve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hancing the autonomy in their early age would strength the possibility of the development of whole-lif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Autonom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reating spac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Discu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How can you create more spaces for yourself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  <a:ea typeface="微軟正黑體"/>
              </a:rPr>
              <a:t>Referenc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  <a:ea typeface="新細明體"/>
              </a:rPr>
              <a:t>Referenc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(2010). Teacher education and teacher autonomy: Creating spaces for experimentation in secondary school English Language teaching. Language Teaching Research, 14(3), 259-27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&amp; Huang (2008). Autonomy in the transition from foreign language learning to foreign language teaching. DELTA: Revista de Documentacao de Estudos em Linguistica Teorica e Aplicada, 421-43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rown, H. D. (2001). Teaching by principles: An interactive approach to language pedagogy (2nd Edition). New York: Addison Wesley Longm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S., Takagi, A., Chu, M.P. (2010)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moting Learner Autonomy: Student Perceptions of Responsibilities in a Language Classroom in East Asia. </a:t>
            </a: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Educational Perspectives v4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, P. (1998). A cognitive approach to language learning. Oxford: Oxford University Pr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mith R.C. (2003). Teacher education for teacher-learner autonomy. Centre for English Language Teacher Education (CELTE). University of Warwick. U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~~~Thank you~~~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16000" y="9079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7020000" y="2565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udent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"/>
          <p:cNvSpPr/>
          <p:nvPr/>
        </p:nvSpPr>
        <p:spPr>
          <a:xfrm>
            <a:off x="179280" y="4221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k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395280" y="234936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5148360" y="1341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1"/>
          <p:cNvSpPr/>
          <p:nvPr/>
        </p:nvSpPr>
        <p:spPr>
          <a:xfrm>
            <a:off x="1619280" y="350028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"/>
          <p:cNvSpPr/>
          <p:nvPr/>
        </p:nvSpPr>
        <p:spPr>
          <a:xfrm>
            <a:off x="5364000" y="49417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2411280" y="1989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4"/>
          <p:cNvSpPr/>
          <p:nvPr/>
        </p:nvSpPr>
        <p:spPr>
          <a:xfrm>
            <a:off x="2989440" y="5013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ool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851280" y="2924280"/>
            <a:ext cx="2881440" cy="28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6622920" y="3860640"/>
            <a:ext cx="2521080" cy="242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e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6804000" y="1052640"/>
            <a:ext cx="1943280" cy="180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11280" y="1557360"/>
            <a:ext cx="5257800" cy="1584360"/>
          </a:xfrm>
          <a:prstGeom prst="cloudCallout">
            <a:avLst>
              <a:gd name="adj1" fmla="val -16092"/>
              <a:gd name="adj2" fmla="val 74250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son (2000) ‘right to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free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924360" y="2997360"/>
            <a:ext cx="5041800" cy="1728720"/>
          </a:xfrm>
          <a:prstGeom prst="cloudCallout">
            <a:avLst>
              <a:gd name="adj1" fmla="val -25032"/>
              <a:gd name="adj2" fmla="val 67449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(1995) ‘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enga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lf-directed teach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1042920" y="5229360"/>
            <a:ext cx="5184720" cy="1368360"/>
          </a:xfrm>
          <a:prstGeom prst="cloudCallout">
            <a:avLst>
              <a:gd name="adj1" fmla="val 10041"/>
              <a:gd name="adj2" fmla="val -8178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ith (2000) ‘teachers’ autonomy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ar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oki (2000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autonomous teacher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freed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sponsibility t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make choic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concern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one’s own teachin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Learn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Would it be great if students can learn by themselve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isconception: ‘learning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without a teache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(1991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for tak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of learning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lassroom-based approach to the development of learner autonomy (Sinclair 200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inence of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learner autonomy as a go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oting learn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ructuring and scaffold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flective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ing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pedagogy for autonom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re to learn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take 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ay need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let g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68360" y="580536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  <a:ea typeface="新細明體"/>
              </a:rPr>
              <a:t>Reflection: When to let go, when to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12720" y="1600200"/>
          <a:ext cx="8423280" cy="5141880"/>
        </p:xfrm>
        <a:graphic>
          <a:graphicData uri="http://schemas.openxmlformats.org/drawingml/2006/table">
            <a:tbl>
              <a:tblPr/>
              <a:tblGrid>
                <a:gridCol w="2808360"/>
                <a:gridCol w="2806560"/>
                <a:gridCol w="2808360"/>
              </a:tblGrid>
              <a:tr h="56340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SYCHOLO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ECHN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rong sense of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rsonal responsi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ontinuous reflection and analy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dagogical skill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ac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unifor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aff development programs &amp;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classroom observ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72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eedom from control by oth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professional action o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06:20Z</dcterms:created>
  <dc:creator>Henry Kwok</dc:creator>
  <dc:description/>
  <dc:language>en-US</dc:language>
  <cp:lastModifiedBy>Jan Connelly</cp:lastModifiedBy>
  <dcterms:modified xsi:type="dcterms:W3CDTF">2012-03-01T09:10:13Z</dcterms:modified>
  <cp:revision>47</cp:revision>
  <dc:subject/>
  <dc:title>Slide 1</dc:title>
</cp:coreProperties>
</file>